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1262606"/>
        <c:axId val="98834856"/>
      </c:barChart>
      <c:catAx>
        <c:axId val="1126260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834856"/>
        <c:crosses val="autoZero"/>
        <c:auto val="1"/>
        <c:lblAlgn val="ctr"/>
        <c:lblOffset val="100"/>
        <c:noMultiLvlLbl val="0"/>
      </c:catAx>
      <c:valAx>
        <c:axId val="9883485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26260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D1725-6B9D-444D-A495-DE7341305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2BE06-2295-43CF-B175-A19ECE9F5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D3FF0-BB62-44AE-99FF-4B076AD23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B4EBC-9E92-44DB-BC6A-39D7CB4E7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7BCC7-F635-4919-AC9E-AAF894254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B9900-FAC9-42BE-BDBA-9FC8542E4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9CD9C-A43E-42F6-A488-737CB2AB6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0E325-D551-4E02-BD01-21D967777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F5060-AF40-448F-BF20-D0BD6EEEA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1ADEE-BD0D-45CD-92C0-5A3446DD7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42763-A5BF-4C14-B19F-1D2BA9F37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8917D-1393-46BB-88F4-78D6084FC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BF3153-60ED-472A-A499-580D641F22A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