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98738"/>
        <c:axId val="13624113"/>
      </c:barChart>
      <c:catAx>
        <c:axId val="57898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24113"/>
        <c:crosses val="autoZero"/>
        <c:auto val="1"/>
        <c:lblAlgn val="ctr"/>
        <c:lblOffset val="100"/>
        <c:noMultiLvlLbl val="0"/>
      </c:catAx>
      <c:valAx>
        <c:axId val="13624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98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137-28A9-4B22-B8B3-261F2918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DC0-A551-4AD6-99E2-E6903631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BA3-EC39-40D3-B7C7-892776EC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90A-5335-417E-BC00-D91149FF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864-FDEA-4678-9726-E2917B28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115-25B3-48A3-BFDA-58E5488B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0B6-4425-4A5E-9AE7-EA7809B8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13A-0FA0-4192-827C-795819D1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56C-3750-49AD-A345-8185D9F9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268-3D33-4227-9918-B8958EA3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84E-6863-4965-B464-F77C6AA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CEC-5A6A-4782-BD0D-6366B4F0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64F81-1AD0-45FF-B4E3-3F54D7BA2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