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62157"/>
        <c:axId val="9879252"/>
      </c:barChart>
      <c:catAx>
        <c:axId val="20062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9252"/>
        <c:crosses val="autoZero"/>
        <c:auto val="1"/>
        <c:lblAlgn val="ctr"/>
        <c:lblOffset val="100"/>
        <c:noMultiLvlLbl val="0"/>
      </c:catAx>
      <c:valAx>
        <c:axId val="9879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62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5B6-CB2F-49DB-B96E-34C9EFEA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0E5-6323-408F-A7E3-B73B8E99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388-7643-495D-AD54-80C5590C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B90-71AA-48EA-9A38-21431A2F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690-FEF9-4630-BD61-4A792A1F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F00-7BE3-45C1-B893-D93215EB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1489-029A-49F4-8459-6291B813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704-98CA-4FE4-981E-F5299787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E0A-1B84-4D42-B86A-0FF06702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D53-85FB-4335-AFD9-8C2825A4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B4FF-3970-49CE-A41D-C5E2404B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1C37-8AD2-4B8E-866E-014C7FBE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D5669-BB3B-4869-B5F8-1E5D4097D5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