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7597"/>
        <c:axId val="88991802"/>
      </c:barChart>
      <c:catAx>
        <c:axId val="55617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1802"/>
        <c:crosses val="autoZero"/>
        <c:auto val="1"/>
        <c:lblAlgn val="ctr"/>
        <c:lblOffset val="100"/>
        <c:noMultiLvlLbl val="0"/>
      </c:catAx>
      <c:valAx>
        <c:axId val="88991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7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D77-8135-43CE-8980-CE42D39B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560-5484-49DF-A98D-E4A271D2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3C5-8106-467B-871D-ABEEC765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EC3-EA67-48BE-9DC2-65B184F2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D0C-3853-4D57-B49F-3485895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605-0EAE-44CB-8A52-3C931C9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3AB-6152-468A-AF2B-1EB69406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B2E-0678-4D1C-B5D5-2D72BDA9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B47-AF0C-4086-92A2-79289E71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92B-429D-4DE9-B68D-88DB034D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2BA-7A90-4001-AE8B-CBECB20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60C-BB76-4DBF-8D64-4151907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89F27-14A6-4980-9871-A362B4503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